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5F8-F726-4178-A5C2-E8F00219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D92-6980-4742-9330-3937ABF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5ED-C257-4422-B095-413A4579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F86-7145-45C8-A9EB-C4635DCF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925-2FFB-4D13-830D-73EF3E1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7BC-BF1A-4142-AE39-F6D2AD26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332-9350-49A8-AC3B-4C262FF5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155-E1F6-446D-842B-2DF18E7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8F4-D422-4F6C-B76E-A53064E2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F87-4F89-455F-A12F-1947FEE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6D5-CDF4-435A-8CFD-185E94A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ED0-1C54-4C01-A564-1717BBD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6C78-E218-4ED8-9848-C189A15151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952880" y="5257800"/>
            <a:ext cx="4191120" cy="160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6000"/>
          </a:blip>
          <a:srcRect l="9148" t="0" r="60574" b="0"/>
          <a:stretch/>
        </p:blipFill>
        <p:spPr>
          <a:xfrm>
            <a:off x="7943760" y="342900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48720" y="5105520"/>
            <a:ext cx="106668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lum bright="12000"/>
          </a:blip>
          <a:srcRect l="65144" t="0" r="0" b="0"/>
          <a:stretch/>
        </p:blipFill>
        <p:spPr>
          <a:xfrm>
            <a:off x="0" y="3429000"/>
            <a:ext cx="11890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rcRect l="0" t="60574" r="0" b="9148"/>
          <a:stretch/>
        </p:blipFill>
        <p:spPr>
          <a:xfrm>
            <a:off x="533520" y="525780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>
            <a:lum bright="12000"/>
          </a:blip>
          <a:srcRect l="65144" t="0" r="0" b="0"/>
          <a:stretch/>
        </p:blipFill>
        <p:spPr>
          <a:xfrm>
            <a:off x="7954920" y="0"/>
            <a:ext cx="1189080" cy="350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>
            <a:lum bright="6000"/>
          </a:blip>
          <a:srcRect l="0" t="60574" r="0" b="9148"/>
          <a:stretch/>
        </p:blipFill>
        <p:spPr>
          <a:xfrm>
            <a:off x="5029200" y="0"/>
            <a:ext cx="342900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>
            <a:lum bright="12000"/>
          </a:blip>
          <a:srcRect l="0" t="0" r="0" b="65144"/>
          <a:stretch/>
        </p:blipFill>
        <p:spPr>
          <a:xfrm>
            <a:off x="1143000" y="0"/>
            <a:ext cx="39099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>
            <a:lum bright="6000"/>
          </a:blip>
          <a:srcRect l="60574" t="0" r="9148" b="0"/>
          <a:stretch/>
        </p:blipFill>
        <p:spPr>
          <a:xfrm>
            <a:off x="0" y="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28600"/>
            <a:ext cx="114300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3000" y="1143000"/>
            <a:ext cx="6858000" cy="4114800"/>
          </a:xfrm>
          <a:prstGeom prst="rect">
            <a:avLst/>
          </a:prstGeom>
          <a:solidFill>
            <a:srgbClr val="626ba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6699"/>
              </a:solidFill>
              <a:latin typeface="Bauhaus 93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1676520"/>
            <a:ext cx="6324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ories Govern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al Languag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quisi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sition vs. Learning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must focus on communication rather than memorization of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rsion in meaningful and comprehensible contexts a m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language in meaningful interactions develops communicative compe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334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752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429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2578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9528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Order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first language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prog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roduction, comprehension, silent stage = no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roduction, 1to 2 word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emergence, 3 to 4 word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fluency, errors are developmental and students will outgrow them as they are exposed to what i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295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962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itor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earners know language rules, they can self-correct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work, learners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o think about what they need to say or have 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ocus on form (how do I say it correctl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 of rules and be able to apply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962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10666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410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put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needs to be comprehensible, but slightly above current level of compe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ust present materials in ways that are not tied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ipul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ese (repeat, rephrase, slower spee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581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8862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733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1447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00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4876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mportant affective variables favoring second language acquis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anxiety learn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ble to acquire language in an environment where they feel accepted and free to take risks; they know if they make mistakes, they will not be ridicu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0038800">
            <a:off x="7378200" y="2557440"/>
            <a:ext cx="1347840" cy="1523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1139760" cy="171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088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954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89600">
            <a:off x="7924680" y="3049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49528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60199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 http://education.csm.edu/students/clewin/2nd_language_acquisitio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6000"/>
          </a:blip>
          <a:srcRect l="0" t="60574" r="0" b="9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523880"/>
            <a:ext cx="6248520" cy="5105520"/>
          </a:xfrm>
          <a:prstGeom prst="rect">
            <a:avLst/>
          </a:prstGeom>
          <a:solidFill>
            <a:srgbClr val="5f68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6652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. Skinner (operant conditioning, reward-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learn language through stimulus, response, and rei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learn oral language from adults trough a process involving imitation, rewards, and rehear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development is a result of imitating as it is reinforced by careg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0880"/>
            <a:ext cx="8458200" cy="914400"/>
          </a:xfrm>
          <a:prstGeom prst="rect">
            <a:avLst/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53352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havioristic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219400" cy="3962520"/>
          </a:xfrm>
          <a:prstGeom prst="rect">
            <a:avLst/>
          </a:prstGeom>
          <a:ln w="76320">
            <a:solidFill>
              <a:srgbClr val="5f68ad"/>
            </a:solidFill>
            <a:miter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parent is not present when the child attempts speech utterances, the rewards for the desired speech are not always systematically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children do not always imitate adult spe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oes not account for speech terms invented by inf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havioristic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914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114800" y="0"/>
            <a:ext cx="502920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bright="6000"/>
          </a:blip>
          <a:srcRect l="0" t="9148" r="0" b="60574"/>
          <a:stretch/>
        </p:blipFill>
        <p:spPr>
          <a:xfrm>
            <a:off x="0" y="0"/>
            <a:ext cx="4114800" cy="1200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4800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ashan/Chom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ists referred to as nativ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that language learning is natural for human be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have an “innate” ability to generate syntactically correct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2120" y="304920"/>
            <a:ext cx="80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natist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7559" t="0" r="12447" b="0"/>
          <a:stretch/>
        </p:blipFill>
        <p:spPr>
          <a:xfrm>
            <a:off x="5486400" y="3048120"/>
            <a:ext cx="3429000" cy="345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1148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486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1143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27432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inborn factors are dominant in language acqui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ants possess a biological LAD (language acquisition de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+ yea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explain how children can generate or invent language they have never heard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4864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6000"/>
          </a:blip>
          <a:srcRect l="0" t="60574" r="0" b="9148"/>
          <a:stretch/>
        </p:blipFill>
        <p:spPr>
          <a:xfrm>
            <a:off x="5410080" y="2819520"/>
            <a:ext cx="3581640" cy="280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got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sts known as social interacti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omise between the behavioristic and innatist theories of language acquisi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rule-governed, cultural activity learned in interaction w/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304920"/>
            <a:ext cx="526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actionist The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124080" cy="239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708400">
            <a:off x="2590920" y="4038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1240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0481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5335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11430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943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 acquisition grows out of an active need to use language and to function i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factors are dominant in language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affecting an infant’s ability to acquire oral langu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gu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80060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58128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143000"/>
            <a:ext cx="914400" cy="914400"/>
          </a:xfrm>
          <a:prstGeom prst="sun">
            <a:avLst>
              <a:gd name="adj" fmla="val 4687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990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562720"/>
            <a:ext cx="914400" cy="914400"/>
          </a:xfrm>
          <a:prstGeom prst="sun">
            <a:avLst>
              <a:gd name="adj" fmla="val 25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directly related to cognitive 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+ nurture= languag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+ yea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gotsky proposed zone of proximal development (ZPD) in relation to language acqui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language through social mediated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12000"/>
          </a:blip>
          <a:srcRect l="0" t="0" r="0" b="65144"/>
          <a:stretch/>
        </p:blipFill>
        <p:spPr>
          <a:xfrm>
            <a:off x="4952880" y="5257800"/>
            <a:ext cx="41911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>
            <a:lum bright="6000"/>
          </a:blip>
          <a:srcRect l="9148" t="0" r="60574" b="0"/>
          <a:stretch/>
        </p:blipFill>
        <p:spPr>
          <a:xfrm>
            <a:off x="7943760" y="342900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848720" y="5105520"/>
            <a:ext cx="106668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>
            <a:lum bright="12000"/>
          </a:blip>
          <a:srcRect l="65144" t="0" r="0" b="0"/>
          <a:stretch/>
        </p:blipFill>
        <p:spPr>
          <a:xfrm>
            <a:off x="0" y="3429000"/>
            <a:ext cx="118908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>
            <a:lum bright="6000"/>
          </a:blip>
          <a:srcRect l="0" t="60574" r="0" b="9148"/>
          <a:stretch/>
        </p:blipFill>
        <p:spPr>
          <a:xfrm>
            <a:off x="533520" y="525780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>
            <a:lum bright="12000"/>
          </a:blip>
          <a:srcRect l="65144" t="0" r="0" b="0"/>
          <a:stretch/>
        </p:blipFill>
        <p:spPr>
          <a:xfrm>
            <a:off x="7954920" y="0"/>
            <a:ext cx="11890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>
            <a:lum bright="6000"/>
          </a:blip>
          <a:srcRect l="0" t="60574" r="0" b="9148"/>
          <a:stretch/>
        </p:blipFill>
        <p:spPr>
          <a:xfrm>
            <a:off x="5029200" y="0"/>
            <a:ext cx="342900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>
            <a:lum bright="12000"/>
          </a:blip>
          <a:srcRect l="0" t="0" r="0" b="65144"/>
          <a:stretch/>
        </p:blipFill>
        <p:spPr>
          <a:xfrm>
            <a:off x="1143000" y="0"/>
            <a:ext cx="390996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>
            <a:lum bright="6000"/>
          </a:blip>
          <a:srcRect l="60574" t="0" r="9148" b="0"/>
          <a:stretch/>
        </p:blipFill>
        <p:spPr>
          <a:xfrm>
            <a:off x="0" y="0"/>
            <a:ext cx="1200240" cy="342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228600"/>
            <a:ext cx="1143000" cy="10666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43000" y="1143000"/>
            <a:ext cx="6858000" cy="4114800"/>
          </a:xfrm>
          <a:prstGeom prst="rect">
            <a:avLst/>
          </a:prstGeom>
          <a:solidFill>
            <a:srgbClr val="60597b"/>
          </a:solidFill>
          <a:ln w="9360">
            <a:solidFill>
              <a:srgbClr val="5f68ad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Seco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Language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Bauhaus 93"/>
              </a:rPr>
              <a:t>Acquisi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181480"/>
            <a:ext cx="914400" cy="914400"/>
          </a:xfrm>
          <a:prstGeom prst="sun">
            <a:avLst>
              <a:gd name="adj" fmla="val 25000"/>
            </a:avLst>
          </a:prstGeom>
          <a:solidFill>
            <a:srgbClr val="626b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4:44Z</dcterms:created>
  <dc:creator>Networking and Technical Support</dc:creator>
  <dc:description/>
  <dc:language>en-US</dc:language>
  <cp:lastModifiedBy>Bill </cp:lastModifiedBy>
  <dcterms:modified xsi:type="dcterms:W3CDTF">2007-06-05T01:13:50Z</dcterms:modified>
  <cp:revision>8</cp:revision>
  <dc:subject/>
  <dc:title>Slide 1</dc:title>
</cp:coreProperties>
</file>